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0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6.jpeg" ContentType="image/jpeg"/>
  <Override PartName="/ppt/media/image27.png" ContentType="image/png"/>
  <Override PartName="/ppt/media/image33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7.jpeg" ContentType="image/jpeg"/>
  <Override PartName="/ppt/media/image28.png" ContentType="image/png"/>
  <Override PartName="/ppt/media/image1.wmf" ContentType="image/x-wmf"/>
  <Override PartName="/ppt/media/image10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49A-DAFE-438F-B246-E3D2EDB5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66C-1522-43C9-A867-7F051442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43D-822F-4029-A796-0C127F67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758-A6D9-4E03-BF1F-A10DCE6E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2881-B133-4383-AF0F-79427B7C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2442-6B88-4662-8A9C-FB0A9FDB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71C8-D8CC-404A-AC0D-2DF3B631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7B05-63F5-4F69-9730-9CEE681A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177A-0FFF-4ACC-AF41-A0280CA8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AADB-CD42-44C5-A2B8-DF01BF63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EAC2-76BD-46B0-AB64-43C751D5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F94B-8D1E-4CB8-9587-F032AE8D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38F1-E84C-4879-A6B2-9F92CD0A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170A-D425-4C6F-83E9-043C5DC0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8826-21FA-4171-A084-6932B4B7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68B5-9C36-4BB8-A08B-5A31A5D2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9294-493B-4D59-9497-931D8312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EA52-267E-4C1D-9153-B4D39F19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656-A9B2-40F1-9D23-32EBB870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257-B00C-43DD-B194-670F8214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73C-2452-4CEB-AF0D-6005A117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02BD-A5DE-40AB-974C-0A0E5CDA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0B0-1466-477B-92A2-65C72945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5AB4-5681-4841-B8B4-1A979972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82c29"/>
                </a:gs>
                <a:gs pos="50000">
                  <a:srgbClr val="c16059"/>
                </a:gs>
                <a:gs pos="100000">
                  <a:srgbClr val="582c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5000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48AA-F4B7-4B9A-BB70-D096E6BEDA8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82c29"/>
                </a:gs>
                <a:gs pos="50000">
                  <a:srgbClr val="c16059"/>
                </a:gs>
                <a:gs pos="100000">
                  <a:srgbClr val="582c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5000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6BA2-2B32-4ACA-B8F2-D3759C1103C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bebc3"/>
                </a:solidFill>
                <a:latin typeface="Arial"/>
              </a:rPr>
              <a:t>Las</a:t>
            </a: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bebc3"/>
                </a:solidFill>
                <a:latin typeface="Arial"/>
              </a:rPr>
              <a:t>Comidas</a:t>
            </a:r>
            <a:endParaRPr b="0" lang="en-US" sz="48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r Natalia Banadyg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63852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bc3"/>
                </a:solidFill>
                <a:latin typeface="Arial"/>
              </a:rPr>
              <a:t>Para el desayuno me gusta comer:</a:t>
            </a:r>
            <a:endParaRPr b="0" lang="en-US" sz="36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3124080"/>
            <a:ext cx="2438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Los panquequ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562120" cy="1790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666880" y="3200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os huevos revuelto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048120" y="1295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105520" y="1219320"/>
            <a:ext cx="2438280" cy="18428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715000" y="3200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bana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380880" y="3657600"/>
            <a:ext cx="2362320" cy="1933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57200" y="5791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molle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3048120" y="3657600"/>
            <a:ext cx="1869840" cy="1981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352680" y="5867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lec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6"/>
          <a:srcRect l="0" t="7368" r="17237" b="0"/>
          <a:stretch/>
        </p:blipFill>
        <p:spPr>
          <a:xfrm>
            <a:off x="5562720" y="3657600"/>
            <a:ext cx="1828800" cy="1914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791320" y="58672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cerea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bc3"/>
                </a:solidFill>
                <a:latin typeface="Arial"/>
              </a:rPr>
              <a:t>Para el almuerzo me gusta comer:</a:t>
            </a:r>
            <a:endParaRPr b="0" lang="en-US" sz="36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3428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La hamburgues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2209680" cy="16491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819520" y="3429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s papas frit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3429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ensalad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2362320" cy="1585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876920" y="3886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447920" y="3809880"/>
            <a:ext cx="2361960" cy="1770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28800" y="5791320"/>
            <a:ext cx="19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sop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59436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agua minera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Para una merienda me gusta: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4120" y="3200040"/>
            <a:ext cx="1565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La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anza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3276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bana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3200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os pretzel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2133720" cy="18669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819520" y="1295280"/>
            <a:ext cx="1353960" cy="1905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334120" y="1371600"/>
            <a:ext cx="1744560" cy="1752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143000" y="6019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La barra de granol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1676520" cy="1620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4572000" y="411480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419720" y="5867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Las galletas de ques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Para la cena me gusta comer: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327636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os tacos con muchos vegetales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429000" y="15238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200400" y="34290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Los frijoles al horn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638680" y="1600200"/>
            <a:ext cx="1828800" cy="1585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943600" y="3352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maiz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2714760" cy="1685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7200" y="601992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os nacho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4191120" y="40384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34340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limonad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Para el postre me gusta comer: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3276360"/>
            <a:ext cx="2174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elad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09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paste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2361960" cy="19098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3505320" y="1447920"/>
            <a:ext cx="1676160" cy="1668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352680" y="3124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gallet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3581280" y="3809880"/>
            <a:ext cx="1265400" cy="1771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505320" y="5791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chocola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5638680" y="1447920"/>
            <a:ext cx="1676520" cy="1654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334120" y="31240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La magdalena de chocola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6"/>
          <a:srcRect l="7136" t="3832" r="10720" b="7909"/>
          <a:stretch/>
        </p:blipFill>
        <p:spPr>
          <a:xfrm>
            <a:off x="5562720" y="380988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562720" y="57913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batid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4:28Z</dcterms:created>
  <dc:creator>banadyganat</dc:creator>
  <dc:description/>
  <dc:language>en-US</dc:language>
  <cp:lastModifiedBy>banadyganat</cp:lastModifiedBy>
  <dcterms:modified xsi:type="dcterms:W3CDTF">2011-04-14T14:58:31Z</dcterms:modified>
  <cp:revision>5</cp:revision>
  <dc:subject/>
  <dc:title>Las Comidas</dc:title>
</cp:coreProperties>
</file>